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92F-744A-4C2F-9D4A-6BD912AE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F05-E181-42ED-A665-CA5C9E9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CAF-2969-4274-A724-F92ED0A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C77-66A1-4487-968A-48DCE15C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B04-89C6-457B-B2B4-24556BC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D22-F19B-4D4A-BD73-6F483EAF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C9D-4A82-4EE4-9262-186B680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E50-B9F1-4DB7-9875-B94EF282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F9E-16F0-443F-AA4C-5FF97F1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58D-7244-42AA-879F-8FAA75D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B87-3E11-4CAD-8FD7-A6A072D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C82-A204-4026-A058-B32D711E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6464-C0C4-4CC3-8545-AB996240A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Arial"/>
              </a:rPr>
              <a:t>Katelin Brito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99"/>
                </a:solidFill>
                <a:uFillTx/>
                <a:latin typeface="Arial"/>
              </a:rPr>
              <a:t>Arc de Triomp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6880" y="117360"/>
            <a:ext cx="3409920" cy="21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0040" y="304920"/>
            <a:ext cx="2774880" cy="204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6160" y="5032440"/>
            <a:ext cx="255276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54880" y="4930920"/>
            <a:ext cx="22208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a64d79"/>
                </a:solidFill>
                <a:latin typeface="Arial"/>
              </a:rPr>
              <a:t>Direc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c de Triomphe is located in the 16th arrondissement on Paris's Right Bank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16th is located in the northwest sector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R: line A, station Charles-de-Gaulle-Eto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ro: lines 1,2, and 6, stations Charles-de-Gaulle-Eto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Outside Paris: exit Porte Maillot and avenue de la Grande Armee or exit Porte Dauphine and avenue Foch From the centre of Paris: drive up the Champs Elyse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5384880"/>
            <a:ext cx="32893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" y="406080"/>
            <a:ext cx="96523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4cccc"/>
                </a:solidFill>
                <a:latin typeface="Arial"/>
              </a:rPr>
              <a:t>    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0" lang="en-US" sz="4300" spc="-1" strike="noStrike">
                <a:solidFill>
                  <a:srgbClr val="f4cccc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Napoleon's Triumphe Ar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Arial"/>
              </a:rPr>
              <a:t>Observa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ff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Dimen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</a:rPr>
              <a:t>Sculptures on Monu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Hou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Direc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Arial"/>
              </a:rPr>
              <a:t>Napoleon’s Triumphe Ar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rch was commissioned by Napoleon in 1806 to commemorate his victories, but he was ousted before the arch was comple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fact it wasn’t completed until 1836 during the reign of Louis-Philipp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56080" y="3132000"/>
            <a:ext cx="27939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                      </a:t>
            </a: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ch is located at the end of the Champs-Elysees, in the middle of the Place Charles de Gaulle, a large circular square that is no less than 12 streets emanat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   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treets are named after French military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2413080" cy="227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7920" y="4064040"/>
            <a:ext cx="2438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                 </a:t>
            </a:r>
            <a:r>
              <a:rPr b="0" lang="en-US" sz="4300" spc="-1" strike="noStrike">
                <a:solidFill>
                  <a:srgbClr val="00ff00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00ff00"/>
                </a:solidFill>
                <a:latin typeface="Arial"/>
              </a:rPr>
              <a:t>Observa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the platform you can see La Defense, Champs-Elysees and the Sacre-Coeu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try and cross the street it is too dangerous, take one of the underpa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need to take forty steps to get to the to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54560" y="4470480"/>
            <a:ext cx="2146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Mone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ults 9 eu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18-25 5 eu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ildren under 18 are FRE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65520" y="3336840"/>
            <a:ext cx="34052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ff"/>
                </a:solidFill>
                <a:latin typeface="Arial"/>
              </a:rPr>
              <a:t>Dimen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ight is 164 ft. (50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th is 148 ft. (45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th is 72ft. (22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51160" y="3149640"/>
            <a:ext cx="3613320" cy="326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6299280"/>
            <a:ext cx="8555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9900"/>
                </a:solidFill>
                <a:latin typeface="Arial"/>
              </a:rPr>
              <a:t>Sculptures on Monu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 Depart de 179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 Triomphe de 18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Resistance de 181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Paix de 181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2880" y="4064040"/>
            <a:ext cx="161280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4720" y="4064040"/>
            <a:ext cx="2071800" cy="2198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83360" y="3962520"/>
            <a:ext cx="1736640" cy="253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416720" y="4165560"/>
            <a:ext cx="1995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                       </a:t>
            </a:r>
            <a:r>
              <a:rPr b="0" lang="en-US" sz="4300" spc="-1" strike="noStrike">
                <a:solidFill>
                  <a:srgbClr val="38761d"/>
                </a:solidFill>
                <a:latin typeface="Arial"/>
              </a:rPr>
              <a:t>Hours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                      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April 1 to September 30: 10:00 am. to 11:00 p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October 1 to March 31: 10:00 am- 10:30 p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ash desk close 1/2 hour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sed on January 1, May 1, May 8 (morning) July 14 (morning) November 11 (morning) and December 25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51160" y="4165560"/>
            <a:ext cx="28321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